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110-74DA-459A-A9BA-FEAF674A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7EB-AC0B-42A2-B0B8-34220E7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44F-B489-4705-8666-BBC4CEF7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F5B-6F8E-4C09-9419-1915D828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E5C-6018-49CD-9C12-025757C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974-EAA3-4F41-B024-D14D2DA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D5C-7CDB-4258-A7A4-FC94E0F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D11-0078-44B0-ADDA-185BED26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BC0-135C-4268-B958-31B3297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441-D7BA-4463-B984-EEBF70C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02E-F361-48FD-842B-23699FA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138-6319-42CB-B6FF-623A5C8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301-F59F-4057-AF95-3ED8A6BC8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www.absolutechinatours.com/UploadFiles/ImageBase/2008122182342678_2(1)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Juice ITC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838080" y="19810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Juice ITC"/>
              </a:rPr>
              <a:t>O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http://backpackeran.com/wp-content/uploads/2011/03/himalaya-mountain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nap ITC"/>
              </a:rPr>
              <a:t>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629400" y="1676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nap ITC"/>
              </a:rPr>
              <a:t>Mountain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ffd1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How is a mesa different from a but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A mesa is bigger than a but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Straight Arrow Connector 8"/>
          <p:cNvCxnSpPr/>
          <p:nvPr/>
        </p:nvCxnSpPr>
        <p:spPr>
          <a:xfrm>
            <a:off x="4038120" y="4191120"/>
            <a:ext cx="205776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rapezoid 17"/>
          <p:cNvSpPr/>
          <p:nvPr/>
        </p:nvSpPr>
        <p:spPr>
          <a:xfrm>
            <a:off x="304920" y="5029200"/>
            <a:ext cx="1904760" cy="18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rapezoid 18"/>
          <p:cNvSpPr/>
          <p:nvPr/>
        </p:nvSpPr>
        <p:spPr>
          <a:xfrm>
            <a:off x="6705720" y="4267080"/>
            <a:ext cx="2438280" cy="25909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http://media-cdn.tripadvisor.com/media/photo-s/00/15/b9/e8/beautiful-trunk-bay.jpg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1920" y="1219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at is the difference between a gulf and a b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666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bay is smaller than a gu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http://istgeography.wikispaces.com/file/view/spurn.gif/31471913/spurn.gif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www.snyder7hills.org/units/ss/ch1/images/Isthmus1.jpg"/>
          <p:cNvPicPr/>
          <p:nvPr/>
        </p:nvPicPr>
        <p:blipFill>
          <a:blip r:embed="rId2"/>
          <a:stretch/>
        </p:blipFill>
        <p:spPr>
          <a:xfrm>
            <a:off x="0" y="3419640"/>
            <a:ext cx="9144000" cy="34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at is the difference between a strait and a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38080" y="2590920"/>
            <a:ext cx="6553440" cy="119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 isthmus is a piece of land that connects two bigger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landmass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together, and a strait is what connects two larger bodies of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ages.nationalgeographic.com/wpf/media-live/photos/000/010/cache/kenya-plains_1032_600x4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Snap ITC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571500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nap ITC"/>
              </a:rPr>
              <a:t>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http://www.geologicresources.com/capecod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Juice ITC"/>
              </a:rPr>
              <a:t>Point of land that extends into a river, lake,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495680" y="3124080"/>
            <a:ext cx="213372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Juice ITC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://www.desktopwallpaperhd.com/wallpapers/11/49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nap ITC"/>
              </a:rPr>
              <a:t>the place where a river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0080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nap ITC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images.wikia.com/geology/images/b/bd/Volc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Snap ITC"/>
              </a:rPr>
              <a:t>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05720" y="40384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nap ITC"/>
              </a:rPr>
              <a:t>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www.traveladventures.org/continents/africa/images/hamm10.jpg"/>
          <p:cNvPicPr/>
          <p:nvPr/>
        </p:nvPicPr>
        <p:blipFill>
          <a:blip r:embed="rId1"/>
          <a:stretch/>
        </p:blipFill>
        <p:spPr>
          <a:xfrm>
            <a:off x="0" y="2133720"/>
            <a:ext cx="662940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cc99"/>
                </a:solidFill>
                <a:latin typeface="Snap ITC"/>
              </a:rPr>
              <a:t>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nap ITC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www.freewebs.com/abbyoneill/Alaska_glacier_calv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Juice ITC"/>
              </a:rPr>
              <a:t>A huge sheet of ice that moves slowly across the lan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Glac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room42.wikispaces.com/file/view/desert2_O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Snap ITC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324480" y="3429000"/>
            <a:ext cx="213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Snap ITC"/>
              </a:rPr>
              <a:t>Dese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40:13Z</dcterms:modified>
  <cp:revision>30</cp:revision>
  <dc:subject/>
  <dc:title>PowerPoint Presentation</dc:title>
</cp:coreProperties>
</file>